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211-A2BD-41F4-9E84-00603686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E51-8123-4D2B-B7DF-01D6E09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277-F3B4-45E3-8A08-73FD9B53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048-B309-4D75-B6A9-E0D1CB75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23C-E385-4CC9-AA96-343A996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3DA-1673-469E-8D1B-33B7BF5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9C2-CAC9-4351-94F8-C836D5A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999-9B0A-4770-A65C-03FBA531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73-D1AB-480C-8BDA-4DC636F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E2F-973B-4FE6-B682-73318FC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E6C-8436-409C-8A8B-361A074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EB4-CFC5-415C-A9AF-F1A6D1C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8010-F31C-4162-B4AA-4BB6C11E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3O1: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lat File Vs Relation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 to the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s “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database management syste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(DBMS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.g. Access, Filemaker, OpenOffice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 to the product created with the software as a “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databas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.g. student records, music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984-0501-4FA7-92C7-0DBF61A6A5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 So, what IS a relational data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20500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A database with 2 or more related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t file 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single table and often suffers from inefficient repetition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removing this repetition by crafting relationships between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F21-022E-4E19-918A-2EBF87D60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158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0920" y="476280"/>
          <a:ext cx="6923160" cy="206388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95280" y="3716280"/>
          <a:ext cx="3462480" cy="28656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</a:tblGrid>
              <a:tr h="38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067280" y="4984920"/>
          <a:ext cx="4797360" cy="158400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335240"/>
              </a:tblGrid>
              <a:tr h="360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S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348000" y="3429000"/>
            <a:ext cx="1584360" cy="2592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740177"/>
                <a:lnTo>
                  <a:pt x="509" y="7523"/>
                </a:lnTo>
                <a:arcTo wR="10800" hR="10800" stAng="-9740177" swAng="974017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3429000"/>
            <a:ext cx="33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o unnecessary data 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Department info easily modifi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1399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9C2-597E-4DFE-B5E4-323AE7A86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hool and Student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data was only in one table, with fields of surname, fname, school, address, phone no, fax no, etc. What would be  the consequence of a school changing its phone numb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RDMS with two tables, one with student info and one with school information will avoid this du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A09-6D41-4B5F-BA9A-4ABF92F28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irline’s passenger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2924280"/>
            <a:ext cx="129564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924280"/>
            <a:ext cx="12236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3357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21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2600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508640"/>
            <a:ext cx="50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ssenger has only one seat and each seat can be assigned to only one passe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4D4-45D1-4634-BFD3-55A1109967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customer details &amp; job qu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516640"/>
            <a:ext cx="50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9417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supplier can provide MANY products, but each product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NE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456264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7CC-15D7-4CEA-8AA1-D44BDA9E4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to-many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Student details and subjects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516640"/>
            <a:ext cx="50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udent studies many subjects and each subject has man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3068640"/>
            <a:ext cx="129564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068640"/>
            <a:ext cx="1295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95640" y="3428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3573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771640" y="335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4292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842920" y="3573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5EC-B158-41A2-A2BB-7B9E78C2D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table real-life database such as a commercial system with tables f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4219560" cy="39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EC5-DA82-4465-9DD1-87EB6B3E8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0:23:01Z</dcterms:created>
  <dc:creator>kel</dc:creator>
  <dc:description/>
  <dc:language>en-US</dc:language>
  <cp:lastModifiedBy>Kelvin Baird</cp:lastModifiedBy>
  <dcterms:modified xsi:type="dcterms:W3CDTF">2008-01-11T01:21:52Z</dcterms:modified>
  <cp:revision>31</cp:revision>
  <dc:subject/>
  <dc:title>Information Technology Applications 2007</dc:title>
</cp:coreProperties>
</file>